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1A8-8EE0-4826-A033-B4D2B4E6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F1E-5113-4608-AA39-B1EE3384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A74-E9ED-4C14-8C5E-BD81C5B3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B4F-160E-41A5-B3E8-33FF208C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904-108A-49D7-932F-18466CF1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E3D-2C8F-473C-B323-215192F6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804-EA11-4223-A0A5-2706C707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F4D-8589-4D03-9BDA-D4164CE0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44D-81B4-49EC-957B-037E2547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706-94B6-462A-93CF-A3ACDDCB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626-2E2C-4C11-9B78-2234D670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56C-26E5-4341-AC9A-057F91AB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F3D8-2C78-43D9-8824-9C16E0FB8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 and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nesday 1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anuar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549360"/>
            <a:ext cx="8280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Stages of Learning and method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549360"/>
            <a:ext cx="828036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ges of Lear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s and make notes on each stage of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692280"/>
            <a:ext cx="82803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92280"/>
            <a:ext cx="8280360" cy="56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es of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five characteristics you would expect to see at each of the following s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nom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your course notes to help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4936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90560" y="54936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692280"/>
            <a:ext cx="8280360" cy="73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e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anning your training how can knowing your stage of learning help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tage of learning you are at effect the types of practices you will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age of learning are you at in badmin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620640"/>
            <a:ext cx="835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of practice/Stage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29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dow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371628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32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gnitiv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4292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87640" y="3212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3429000"/>
            <a:ext cx="309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tition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 without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 with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ous 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ation 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3213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2276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84720" y="24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2492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162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nomous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2637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ed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85264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0000" y="2060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620640"/>
            <a:ext cx="8353440" cy="71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: Wednesday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an activity and a skill or techn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he following approaches. Describe how you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about your chosen skill or technique using this appro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han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men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ation of qual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Discuss the results of the information gathered in Par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Make 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to how you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was affecte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Outline the programme of work that you followed to develop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in this skill or technique. Explain why this programme 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was appropri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Explain why it is important to monitor and review your programme of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maddenp1</cp:lastModifiedBy>
  <dcterms:modified xsi:type="dcterms:W3CDTF">2011-01-11T09:10:00Z</dcterms:modified>
  <cp:revision>15</cp:revision>
  <dc:subject/>
  <dc:title>Slide 1</dc:title>
</cp:coreProperties>
</file>